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EC1-0D48-46BB-9289-323D1410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DB6-6B4C-4608-A6CB-A3C8A114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D6D75-0EFB-438F-8BBF-BA3A6E8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38586-872C-41FF-A384-7A064F9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F2570-DE25-41E2-B220-6E050BF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2846D-D4EE-48B3-9037-40B93CF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F658F-1D5C-4528-AAC7-9201CD8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8A70D-E2D4-4DFC-BB49-6687336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2AF1C-9B05-46F4-A14C-EA983AC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30335-A5EE-4CE9-BB07-6CF644E6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69620-EBA9-4028-9457-F6211350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C3FC9-BAF1-497D-B5F1-F01712E9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96-7B47-4BAD-9448-760D2D3B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D4560-B4B4-4B47-B0A6-63AA05C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24F3E-1154-4B52-B028-E3F66029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DBDDE-9D27-42A8-B85E-2CE50739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94BBA-08FF-4025-A270-EEA22F1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B0D77-FD70-4A01-AB54-BBBADDFD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9C83B-94A7-43BC-847B-3A6AE98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96AE1-4839-445D-B0C8-51CB310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F2F32-3D1D-4BEB-865B-48F4A42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545E4-8AC6-4F10-9370-F047457A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EC17D-1211-4B72-B5B2-01D0E303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070-4613-4FE5-9F68-544FC092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F34E-EF3F-479D-B9DA-88316C59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64888-D260-4E4F-89A4-6F8B9430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08B0-6721-40F4-BCD4-C1DBEAC8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A368D-C96B-4ACE-B807-A3C397D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89D68-653F-45C9-8D55-3DAEA37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5B310-A7AC-4E12-BE4F-5C00313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D7848-C6E6-4D27-AD90-7E3F296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440B6-AC12-4676-87F1-AB5EDAF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229D4-F418-4902-99B9-6D1D2F6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DC620-FAAB-4F03-9E08-302ABA30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6B8F-B9A7-4B65-9A3C-60CE0384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EC1D8-177C-4C20-9196-F3CFACF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37D2-DE99-4092-B8B6-5D2EBFBD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0F776-9728-4C20-8569-C6D82F1E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8725F-C37B-46FE-BD13-A422F593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97C2D-D956-4B8F-B001-47EBE9D5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91970-BA58-42B2-BCF6-ABF3591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5D2FB-8DF6-46BD-A64D-56CDC4B6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831F3-E3B6-4BC7-A268-AC5BB43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D73A8-BA8C-4AF5-9468-2A8C1AAB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3975A-3FF4-4CB4-A397-E0426B8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223-9334-4E4D-94C0-55CEB10D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82194-F917-4674-8774-AEA3750C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55487-F093-479A-BFF4-C5C786C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6A5E7-2783-459F-82F1-CA8DABA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18E7F-4CC3-455F-A92F-F7B4E02D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6165A-A982-4618-A5E1-E839BB7E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D1DA7-29DC-4EE3-B63A-8C6BA3DF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A143C-333E-4861-98AD-A527EC98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34F24-6282-4917-9E55-4FDEC6E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E9D7E-A451-4EB6-9CA8-CC5320E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2FBF2-69E6-4C25-84F5-8A3367A2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5146-2F00-4828-9AFA-0519DBE1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4C6D3-F0D3-4C7F-BA35-BAB20CBE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60BB6-C6CC-4C36-8A36-E3D5E1E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9DD68-A786-4FE9-91FD-A9945D7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84E0E-C01C-454C-9085-4A00C12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95999-06B9-43B8-B91B-0249CF4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1BBA3-0261-4866-8803-79640D7E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5CB59-6B3E-4881-9A7D-E896BAD7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B035E-15D4-42BF-B3FA-66321F7C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D27EC-F270-4BE5-989F-0E1D89E8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856B6-1569-4786-9B0E-4E31C2B4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3C04-4706-4717-80DC-9C9B722D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FE68B-DF5E-462B-A8B7-73CED2CC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0BAB7-7DC7-4169-B734-39E1F455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C392D-A8B3-4096-84B8-7320B2F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07306-FCDF-4C5F-AFEC-F39B077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69348-6C88-4948-8062-E48A22E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6A6AB-EF8B-4702-A8DE-444A1D7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73D6C-95E6-43A7-A129-B2CE4938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FE0B3-612C-4803-AD08-2417FCCF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DBE6F-00B1-4CC9-A92A-BDA9B9FC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0F054-F594-48B6-9188-AC6A702D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24A-93A8-4881-81CA-60A56F8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44AA1-3E86-4368-ABAB-D220353D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6BDDA-9E29-4EDA-8374-DB45206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CAA09-F0FE-4632-92E8-B4D296C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3BFA4-66A9-4618-9B09-301C3F7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5B402-6CC1-4002-9E06-7FEA7E29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FBBBC-67D3-4234-AEEC-31012E5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850C2-438F-4FCA-884F-419C282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1A19B-1CFE-483E-9145-AA41B56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A20E7-C9B3-48E2-A0A2-593F306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D90A3-B1F7-4ED6-8C72-D50A6464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473-7895-4AA3-967D-4417975D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4D5CA-17F7-4E9D-8710-9066289E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99E8F-2447-41FA-B71F-3AA4E153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55752-C8A3-4AEE-9300-243A2270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30440-DC38-4350-A762-63DB4AF4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8096C-B777-4CB8-B49A-50B33506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74034-02CB-4BAC-98D2-2E2874E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667BF-CE8F-43EB-ADC5-622384B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2F5C4-030F-4A17-9A99-2F96698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E3F27-E452-4370-A1F0-B5A15472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2BF92-0312-4EB0-B289-50860E45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5CCA-5F92-416D-8433-A5C3468E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15E5B-9E58-4F9E-AFFC-E3ED792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2A465-743C-43A4-B2B1-AF33EBEC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154CB-849C-44FB-A5CB-E0AC27F8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244A6-A149-44AC-A1BE-CA5085E6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1249A-ED42-4184-8561-C708BB7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B9A38-3451-4C1B-BCEA-1C6EB400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E604C-7FBF-495D-888D-11584DB1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B8C51-3024-4EA2-9439-C5B497B5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2F44D-6286-41FA-9F4D-4F3A685C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0AAFD-334C-4E29-9C7D-9993FCF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5EF-3D3B-4138-82D2-6887C67B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147-591D-4B10-9FB3-157CEC9F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50EAA-A35E-46FF-A1D4-40531FB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1CC92-FB9A-475B-A0F8-D27FFC1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332B4-574C-439F-BC11-52CAB7D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7D987-B937-427D-98E5-55B9E577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6353F-4410-4584-8B94-AAC1A78C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1FC26-47CD-4610-B26D-59CB90A8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1C72F-FA8C-49CD-B10F-837FEE4E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D9B32-F85B-412A-84A2-E7C7C336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6643E-93B0-46BF-9957-BB274BE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139D9-5716-44EE-8FC2-0F22B1E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F054-4807-4A29-BAB4-7898D6B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78CAC-FFE6-40A7-BBBD-A809131F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8B24B-C45F-47A6-9C5D-1763269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E5881-E27A-46AB-923E-C23EF5A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FCE71-BF7C-47DA-856B-F0C3CB3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E6E5D-AEBC-4B89-AC3F-B130080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C66E8-7EAC-4EB5-BE03-4621DFE2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5B762-7DDF-4399-A3FD-9AB1F68C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76952-8D14-441E-9D5D-C54FBEDE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9725D-1403-43F8-A831-9C532CE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3B02E-E17F-4D75-9073-70F4FDAF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93B3-4B3F-4E81-80E8-B85E1F1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1BE58-3AC1-46F6-B23F-962D3F9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89B1A-DC2C-48F3-93DF-8B948C85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E4C160-45BB-4A8A-A84D-F299839E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1FCD2-CBE2-4E50-9DE9-8D579034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B3D36-6D5C-4B78-A9CD-DC4B8E0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2F2AA-4D61-48ED-9A84-BBAE1B6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727DE-2C33-40B9-AED5-BD50C7E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24BAF-2BEA-41B7-83BB-7064F872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22DCF-40DE-45A7-9C09-AE23AD04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9C879-C26E-4684-80CF-56A71C9A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2FEC-9382-4842-A1D2-FA46DAAB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1FF09-F612-431B-9683-1C2DD730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3F775-3C38-40AB-9DB2-442182A9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A6378-A904-4818-B4C0-D5C9C16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88A0A-D65F-4CFE-8A85-F8AC2303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D2251-D50D-40F2-B469-57FDAA74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2C4FA-38D5-4D0A-8442-A579C4B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C6233-EE2A-4FC8-98AF-7EC22A8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E08FD-BB59-47AE-8712-CE5DA648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DA6F4-CCE6-407F-AD9D-2805A59B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2F242-38F9-4996-BFDF-65615446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D24-3DB1-428F-912A-B9A47405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14442-EE87-4605-AB6D-E8346BB2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8FF1F-5C6E-433D-B517-731168DC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7D3CE-C884-43EE-A485-B77BBAE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AB30A-C65B-4671-9A4E-4FD82647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4C19C-7FA2-4282-A937-ADA553A2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41211-193E-484E-A7FF-DB8A8A3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A8E6A-1EF1-4D1E-BDDC-EC9C037C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E12C5-8132-46DD-8F63-5CDD08D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9AA3FF-E365-4DAC-906A-8CBC071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53A34-C881-4311-89D8-B12A332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11B5-3979-4E2E-8F38-3483661F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2D70A-7817-4D80-9913-7806B47C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EFF0B-B7F0-4F15-9B91-D2B692C0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6635D-8268-46B6-9A66-46B928DB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609D-A025-4C3D-9BDA-4741C010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7D7B-B665-4FD4-A08C-6ACEE25D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194D-9BAD-4534-BF9B-899C8AE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15ED-75E6-4E4E-A37B-5A44D21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9E3-AEDB-4309-BEC4-59542B0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8547-A7CD-49D5-BAB2-1563703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6DC4-DA3E-42F3-86D5-3DD4232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FF9D-09E7-40B3-BA07-D2C0E15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C5E9-EA8B-4314-AE3B-EC09FCBF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A27B-D278-420E-95D6-DA3845D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41F8-EEE3-4C40-8195-E2A925DF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7EA5-162B-404F-8ED8-0342ADF9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2739-C908-454C-AE59-0EF5A9A0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21E30-9734-42F4-A39E-92F2502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A75E-F45E-48EE-BFB2-61ADF879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D67-B4B6-48BB-9870-7DE3923C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5995-3062-4C3B-8FEB-9BAA93F0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3E34-40DF-48CB-98AB-D47CD34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9A66-9180-4FB3-9EE9-81F9961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79EAF-50A5-4DD4-830F-E5FB45D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6685-362E-4C05-9160-CFFBCF1C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42E54-FA47-4F4B-8165-E2DFF28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478F-A1C2-43DF-A96D-A3AE2CB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B094-6187-4B97-B6DB-317BF199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961A5-995B-43CD-B0AE-8E7DA1FF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B37A-1C47-4A27-9C1B-B97BCADD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B97-1E1B-4D66-8A91-7C0676B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5075-7CB2-44FC-8D4A-7EB7B46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D4DD-77EF-4EED-A49B-1D0276AE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4830-FA8A-4276-9891-FF3F28F4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F3CEA-C4BF-4C93-B9FF-6683F6C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14FD-C55C-48CE-A8D6-DD66604F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128C-E678-444B-BB07-A86B3C6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38E8-6D18-42FF-89A2-BED539C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BD39-4BBF-4AA1-8802-AE0D84A1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B72F-E493-456C-9C2D-3FF61318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F653B-2C50-46DD-94A4-9639F466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473-C053-4EBE-BCE2-0F2FB5B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D2E0-D4CF-4B81-9FAB-C494EA7A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876B-7381-4D0C-9857-91DF2C2A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B50B-7163-4336-8D23-0B9FA09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FCE7-1116-4148-A913-0963BB0B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FF80-7623-4B77-8BAF-E2D4591C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747EA-E185-4228-816D-B570BD1D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5B29-86F1-4A91-B89E-8E96FDA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701D-8650-44B7-9470-060EE21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4D2AC-8195-4A35-ADFC-3B077B0F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9F3F-3358-4F70-BF9B-9A8C43D1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A75-8BD2-4611-8A9F-1D0353B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318B-20B0-46ED-9A4F-3109BC92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FC88-BA34-4A8E-982A-0F30A4D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11F2-AB1D-4DAA-A1BC-0C30EFB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38029-A756-479B-A61F-B3C4E0D6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A071-76A6-4E3B-AC4D-60F4E140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A6462-DA4E-491F-A3DA-A24843FA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2F255-17B8-49A5-9580-E3DE502B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62A6-1B7A-440A-92BD-8CE42736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5CF1-F0E9-4AA8-876A-5D043CB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5FC12-62AB-4E88-9C42-F3C4D3E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A3D-7300-4FF2-AD2F-D9C0B97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E76A4-312B-47E6-A3DB-A48AC8C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C525-F5B1-4815-93E5-D1CF11C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0B6DD-043E-4654-97C6-552BB0CA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A949-0E51-4E43-B4A5-96858616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175A8-9568-4C02-BB86-FE40541D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56FDB-AAB3-4B64-81F3-84C7B249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5C02-3248-46AD-A094-A193ACBB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2DD5-EA18-4173-B4B7-B77C023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7054E-8E43-497A-8FD9-3A600EB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18DDC-293A-42EB-BDBE-98B0587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272-54C8-4390-81A6-841EBE8C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3DBE-2944-473C-9718-99835A3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762A8-9172-424B-9D71-4CB24F0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1146-1BE0-42CB-B94E-910A0E6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634F-82A5-4785-AE3D-29A8A00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D738-BA4E-455E-B8D0-8BA04F9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9D49-7B1F-408C-A35F-B4D9A41A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A544-9832-449C-92CF-18D2588E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BF7F4-B489-4907-94B4-BE82EA8C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37815-8498-4DA1-B15E-FD47C9D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B7B86-FE11-4FAC-89FA-AEA2875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85B-F494-4297-9D6E-487901ECE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CF4-4D2F-414E-B7F2-4CB31610B3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90D-89AB-4AC5-819C-54FCD8540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6D36-363F-4DC7-9A2B-E5C34B413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0393-4304-4C63-AAAA-14BC2DE76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D10E-2972-401C-B789-AA5AAAF8D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2544-27C7-4170-AF96-D3540EFBE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5F06-B595-4799-85E2-93EDC171BF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ED0-16A0-434D-94A5-66BDE65D04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623-C510-4E45-BD2F-84CEB512C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8FA-A0F4-48CC-8021-EC3B62667D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AA9-DD6C-4062-AAAE-93069C2F9C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937D-0C16-4114-93F1-77F495A26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FC0F-2FB7-4730-8508-FA97021EC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77A2-5C2D-4F7A-B27B-372B93A03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FD78-8AEE-47C8-B948-343ADC1789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F90-F8F2-4F70-BABD-C0BAACBEC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D0D8-E6C2-4E4D-9FCF-ABA64F14E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8DC-D2A1-4077-B13C-B55C45FCE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2CC-5480-4847-BAAC-4E05E454B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4CBD-0F58-4A52-AD10-BFAC4D93B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7127-5D8E-47E8-A3DE-B47882648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39B-0EA2-4E6B-A711-031B63C9C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A102-CB9D-4D56-B56D-23C958107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E09-542F-4E36-9A88-159F83B82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44C-DDA4-440A-B73E-2672E1924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E52-9DF9-4EBF-8536-F65106E968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4647-927E-4628-88E1-0AF9490E8F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C4CE-0F14-479F-A81F-35C90968D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EC0-5B5B-4747-A122-A9A572356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72C-7ACF-43FB-BD0F-CEC064616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687-626C-4D58-96A7-59DF5E4EDC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E81-D0D0-4B02-AFDA-669A2B9DA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5F4-4FE7-41F1-B2AC-5C71DF78E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2124-EB15-4CC5-B6A2-F516DFBBD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A1E3-0E43-4844-99A1-DF4C0CD87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4DE-088C-4440-B315-77B005CB5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54D5-5DB7-4611-ACF9-34FBF7D60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57F-BBAB-4D17-BDA1-E6A93DFEE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47E-3798-4272-92E8-E3C48560C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47960" y="3166920"/>
            <a:ext cx="52480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81080" y="1243080"/>
            <a:ext cx="8781840" cy="4371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67000" y="2727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54764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547640" y="3448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365720" y="2727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91000" y="3097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481640" y="3429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289640" y="2736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389720" y="306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389720" y="3448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654200" y="4446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987640" y="4456080"/>
            <a:ext cx="1513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084720" y="4437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308720" y="4456080"/>
            <a:ext cx="1513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619280" y="4878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002040" y="4878360"/>
            <a:ext cx="15127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084720" y="4869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361280" y="4869000"/>
            <a:ext cx="1512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1619280" y="5291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2987640" y="5300640"/>
            <a:ext cx="1513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084720" y="5291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308720" y="5300640"/>
            <a:ext cx="1513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314280" y="907920"/>
            <a:ext cx="8515440" cy="5400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2593800" y="11444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2598840" y="1557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2608200" y="1989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2598840" y="2430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6559560" y="1125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6545160" y="1566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6550200" y="1989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6550200" y="2430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9419" descr=""/>
          <p:cNvPicPr/>
          <p:nvPr/>
        </p:nvPicPr>
        <p:blipFill>
          <a:blip r:embed="rId10"/>
          <a:stretch/>
        </p:blipFill>
        <p:spPr>
          <a:xfrm>
            <a:off x="1062000" y="4181400"/>
            <a:ext cx="7763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8373" descr=""/>
          <p:cNvPicPr/>
          <p:nvPr/>
        </p:nvPicPr>
        <p:blipFill>
          <a:blip r:embed="rId1"/>
          <a:stretch/>
        </p:blipFill>
        <p:spPr>
          <a:xfrm>
            <a:off x="1100160" y="2409840"/>
            <a:ext cx="6943680" cy="203832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8374" descr=""/>
          <p:cNvPicPr/>
          <p:nvPr/>
        </p:nvPicPr>
        <p:blipFill>
          <a:blip r:embed="rId2"/>
          <a:stretch/>
        </p:blipFill>
        <p:spPr>
          <a:xfrm>
            <a:off x="1571760" y="3351240"/>
            <a:ext cx="1655640" cy="4032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8375" descr=""/>
          <p:cNvPicPr/>
          <p:nvPr/>
        </p:nvPicPr>
        <p:blipFill>
          <a:blip r:embed="rId3"/>
          <a:stretch/>
        </p:blipFill>
        <p:spPr>
          <a:xfrm>
            <a:off x="5911920" y="336060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8376" descr=""/>
          <p:cNvPicPr/>
          <p:nvPr/>
        </p:nvPicPr>
        <p:blipFill>
          <a:blip r:embed="rId4"/>
          <a:stretch/>
        </p:blipFill>
        <p:spPr>
          <a:xfrm>
            <a:off x="1566720" y="3898800"/>
            <a:ext cx="1656000" cy="40320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8377" descr=""/>
          <p:cNvPicPr/>
          <p:nvPr/>
        </p:nvPicPr>
        <p:blipFill>
          <a:blip r:embed="rId5"/>
          <a:stretch/>
        </p:blipFill>
        <p:spPr>
          <a:xfrm>
            <a:off x="5905440" y="3884760"/>
            <a:ext cx="16560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0:1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